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7A60-8370-40A2-9C52-909A77481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F5F3-3E93-4EA6-9A47-A03256DC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023F-75EF-4F6B-9CA4-89A6851D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658-3039-47E7-A0E8-F42FF828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232-1383-43DD-85C2-CD20FD5B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8F6-6421-4411-94AF-31ABE766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FE4-554C-4504-B435-AAA0BCB0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D79-13CF-4C7B-A024-540DF7D7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56E-D4FA-47AD-9FC3-D58B3442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11B-48B5-4527-8B6B-56678CA9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000-2316-4FA4-B0F3-2C99DD0B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09A-5251-4B67-9CF0-F31F6CCB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84E-B180-419D-A707-B833783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7AA-CD74-46F4-B54C-DEAFE425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0D4-74F3-4739-B6B5-68A07F05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925B-FE7E-4AF5-97CD-FE7FCEDD2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ONS 15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4-X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O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HD-EXT-P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cl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05320" y="3497400"/>
            <a:ext cx="3333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BG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C-CWDM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0040" y="3546360"/>
            <a:ext cx="58392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9:49Z</dcterms:modified>
  <cp:revision>5</cp:revision>
  <dc:subject/>
  <dc:title>Slide 1</dc:title>
</cp:coreProperties>
</file>